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4DA1-E590-4690-955F-07DEFB39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23F6-98D3-4AA6-9808-E70B7EC4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23B2-A345-4B70-BBBE-C34AF460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D5E7-3CD5-412E-BD86-E54D6025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478F-AE06-4828-B4B9-2B4DA3E9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249B-B61D-4658-9D67-B8D74570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C794-5FD7-4748-9B64-9EB82D27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9A12-9FB3-43F8-A4F8-0D9D7231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8B8F-7223-46CD-A7D1-AE866D7C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E4B3-3535-40B4-A0F4-114B601A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E89A-CB2C-4AA3-BC05-AE7D334B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19E8-B82C-4785-9DE5-5CBC1DEF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ECA6-F9FA-4C43-8BE3-C0930CDB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F82C-2FBD-46A3-83C5-D7858F50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8429-1CB1-4ED9-AF65-2DD85A81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9B68-1467-408B-8226-B0B802F4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6CB5-68FE-48E3-B9DB-DC0223C9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3BE4-20A0-47CF-ABD8-7A66D582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7035-E7F6-4610-B1D7-31F4AC4D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9198-3D55-4723-8D62-CEF72326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DBD7-30D1-4931-9BE4-1EB0961F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5AD7-FBFE-412C-8E87-0A608A95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1D88-ED68-4334-A71B-00296971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DDFE-10EF-42A6-AE53-0DD959AA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F37B-C69B-4143-A8CC-D0ABEF445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1240"/>
            <a:ext cx="16905240" cy="10793520"/>
            <a:chOff x="-7761240" y="1461240"/>
            <a:chExt cx="16905240" cy="1079352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124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6C19-D59B-4488-A163-FDD5AB317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lementing NRC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Pest Manage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stin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“No Spray Zone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gns in all environmentally sensitive area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724280" y="2286000"/>
          <a:ext cx="35053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286000"/>
                    <a:ext cx="35053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argeting Pest Manage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Priority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vironmental Monito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GS, State Agencies, Agrichemical Compan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P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ulatory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MD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DW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argeting Pest Manage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cope of NRCS pest management activities will vary widely across the cou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ance based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resource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cy resources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or local regu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argeting Pest Manage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al Monitor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ing 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ulnerable/Sensitive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Use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rity of Re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trict Prior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 Technical Committee Prior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 Government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argeting Pest Manage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 Share or Incentive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ility of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as of Low IPM Ado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st Outbrea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anding Commod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odity Group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p Protection Industry Suppor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rtnershi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cannot succeed alone. We need to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velop and mainta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ery close tie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p Consult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Agricultural Ag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odity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richemical Dea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one else who influences recommend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rtnershi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” focus on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fficac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conomic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” focus on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nvironmental risk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appropriate mitigation strateg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 thre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se must be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tegr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to final pest management deci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geth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we must deliver an integrated message and provide appropriate incentives for implementing reduced risk alternative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est Management Certification (NRCS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one can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velop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st management component of a conservation pl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ertific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only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quire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ppr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pest management component of a conservation pl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RCS certification is for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nservation Plann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ot Pest Advisors, although there may be some overlapping requirement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2T15:19:59Z</dcterms:created>
  <dc:creator>Joseph Bagdon</dc:creator>
  <dc:description/>
  <dc:language>en-US</dc:language>
  <cp:lastModifiedBy>Joseph Bagdon</cp:lastModifiedBy>
  <dcterms:modified xsi:type="dcterms:W3CDTF">2001-02-22T19:11:02Z</dcterms:modified>
  <cp:revision>7</cp:revision>
  <dc:subject/>
  <dc:title>Targeting Pest Management</dc:title>
</cp:coreProperties>
</file>